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6E6-DC4F-40F3-A03C-4ED8713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810-51AE-4992-A0FB-DAB1F04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221-3670-42D0-8960-F6BFFE56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F9F-1149-40BF-ACA8-5A63B7ED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D32D-1BF9-4BB6-BC3C-146D662D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A7C5-1F96-48B4-92BE-1F591C0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FD55-EF7F-442B-B4E0-9FB40EE7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5D5-1EE1-4642-9404-B4A69A58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7CD-88D1-43D4-A9C0-ECED45DA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D9EF-7BFB-430A-A86A-4C55DF7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E200-BED2-4C1E-B0E8-B85353A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3ED-D013-4C71-8477-08B8FBC4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683-76A2-4137-949B-F93007E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7DA1-EC19-40EA-AA31-17BE34D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9479-FB21-4CA7-90A3-ED386E85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B673-C23B-4030-83D4-C282A91A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F705-6640-4706-BEE8-5BF6DC19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070D-87A6-4AA7-B571-887008E5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6128-B4A6-4E1A-B257-E904CEA1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598F-0067-44C0-B8C7-B0A001D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DCCF-9C50-4458-86AB-2EDBF77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51DC-A129-437B-B8DB-017FB881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07E-78B5-4ED9-9B9D-819F80A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C352-D4E4-44D6-8112-F7530F6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B6C7-E0B7-4991-9C71-CBE2AE2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AB80-4CCE-463B-AECE-2A8A502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B968-BA9A-4873-B83E-F5B9AF0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0F41-F7C0-4C56-BAB7-08CADCC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F352-0736-4D58-A774-6195356D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3804C-DCED-41E2-8A96-CEDB2606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7D48-2A45-4CB0-9DB7-82DC80BA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C02C-EB81-4C74-81DE-C7FF420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614F-43DA-448A-9B36-F3E353F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11E-8F3E-4C6D-AE9B-4A566002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6ADC-0A53-42F1-9C67-673C977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2EA7-94A0-4442-9A39-83E949D9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E310-4B82-4B3D-B58E-107212AB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E326-FC8C-4EEC-8C38-76ED8B07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EF1C-5B7D-438A-8418-E04CFFB0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F4DB-747C-42BA-806A-2AA5F2D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4F1B2-5BCD-4F9E-B5E8-DF418D61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7B2CA-DED7-464E-8AB8-2E3EEE7B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B127E-829E-4DF1-8113-13E756FB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A29-3765-44CC-8092-F94021D5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6DC-3FA4-4577-B554-A0DC5CFF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1FF-5FD7-4217-9DC8-8190D33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743-446A-4C50-88D7-54796A9D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C90-5F36-4067-AE3B-719C08E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1F5-CAFE-4F17-8EF4-756307607F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3514-5120-409B-BA06-6E928D623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D7B-7A66-4225-9EAE-103BD6F142CE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66E-33B2-4D81-B165-283AA9B3FD4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59B-DCD7-4FE6-957B-65A32B83FE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FFD4-1150-47C5-9141-15F8E50BE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3DD-D29E-4492-BBC3-B328BCD4EC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B387-F5D4-4274-B16C-1C7C54586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mailto:dambrine@tylogix.com" TargetMode="External"/><Relationship Id="rId2" Type="http://schemas.openxmlformats.org/officeDocument/2006/relationships/hyperlink" Target="http://www.tylogix.com/" TargetMode="External"/><Relationship Id="rId3" Type="http://schemas.openxmlformats.org/officeDocument/2006/relationships/hyperlink" Target="http://www.w3schools.com/sql/default.asp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2488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QL on iSeries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DDL Database Basic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SQL Languag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Interpreted (2 kinds)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Compiled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Dynamic (2 kinds)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Index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95280" y="5591160"/>
            <a:ext cx="84247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igher Productivity iSeries Programming Using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By Thibault Damb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2000" y="260280"/>
            <a:ext cx="84963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ltering Existing Tables with DDL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42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LTER TABLE EQP_TABLE ADD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EQUIPMENT_CATEGORY FOR EQPCAT CHAR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24000" y="12682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a new colum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24000" y="3716280"/>
            <a:ext cx="842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ving a colum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95280" y="4724280"/>
            <a:ext cx="842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ALTER TABLE EQP_T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DROP COLUMN EQUIPMENT_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105080" cy="17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tting up Constraints in SQL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32360" y="259920"/>
            <a:ext cx="4068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CREATE TABLE          DEPT_TAB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(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DEPT_ID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   CHAR(2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DEPT_NAME VARCHAR(20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</a:rPr>
              <a:t>PRIMARY KEY(DEPT_ID)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08000" y="3284640"/>
            <a:ext cx="446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ing up a Primary Key and Parent/Child Constraint (when creating parent/child tabl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360" y="2637000"/>
            <a:ext cx="3960720" cy="41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CREATE TABLE EMPLOYEE_T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(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EMP_NUMBER INT,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EMP_NAME VARCHAR(20)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DEPT_ID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 CHAR(2)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PRIMARY KEY(EMP_NUMBER)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FOREIGN KEY(DEPT_ID) REFERENCES DEPT_TABLE(DEPT_ID))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250920" y="4869000"/>
            <a:ext cx="4032000" cy="17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Courier New"/>
                <a:ea typeface="Courier New"/>
              </a:rPr>
              <a:t>ALTER TABLE EMPLOYEE_TABLE ADD CONSTRAINT CSTEMPDPT</a:t>
            </a:r>
            <a:r>
              <a:rPr b="1" lang="en-US" sz="21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FOREIGN KEY DEPT_ID REFERENCES DEPT_TABLE(DEPT_I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50920" y="1989000"/>
            <a:ext cx="439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up a Primary Key with existing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3419640" y="2492280"/>
            <a:ext cx="936360" cy="216000"/>
          </a:xfrm>
          <a:prstGeom prst="rightArrow">
            <a:avLst>
              <a:gd name="adj1" fmla="val 50361"/>
              <a:gd name="adj2" fmla="val 108375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4427640" y="260280"/>
            <a:ext cx="360360" cy="640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749"/>
                </a:lnTo>
                <a:cubicBezTo>
                  <a:pt x="10800" y="6649"/>
                  <a:pt x="5400" y="7549"/>
                  <a:pt x="0" y="7549"/>
                </a:cubicBezTo>
                <a:cubicBezTo>
                  <a:pt x="5400" y="7549"/>
                  <a:pt x="10800" y="8449"/>
                  <a:pt x="10800" y="93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10"/>
          <p:cNvSpPr/>
          <p:nvPr/>
        </p:nvSpPr>
        <p:spPr>
          <a:xfrm rot="5400000">
            <a:off x="2104560" y="2654280"/>
            <a:ext cx="325440" cy="4033800"/>
          </a:xfrm>
          <a:custGeom>
            <a:avLst/>
            <a:gdLst>
              <a:gd name="textAreaLeft" fmla="*/ 208080 w 325440"/>
              <a:gd name="textAreaRight" fmla="*/ 325800 w 325440"/>
              <a:gd name="textAreaTop" fmla="*/ 105120 h 4033800"/>
              <a:gd name="textAreaBottom" fmla="*/ 3928680 h 40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5"/>
                </a:lnTo>
                <a:cubicBezTo>
                  <a:pt x="10800" y="9895"/>
                  <a:pt x="5400" y="10795"/>
                  <a:pt x="0" y="10795"/>
                </a:cubicBezTo>
                <a:cubicBezTo>
                  <a:pt x="5400" y="10795"/>
                  <a:pt x="10800" y="11695"/>
                  <a:pt x="10800" y="125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14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aling with SQL Object Names Longer than 10 Character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L allows for table names longer than 10 charac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PFD CANNOT see these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POBJD CANNOT see these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eeping track of these tables can only be done through the SQL 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QL CATALOG Files are stor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QSYS2/SYS* system tabl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7943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st Used Catalog Tabl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1628640"/>
          <a:ext cx="6121440" cy="4572000"/>
        </p:xfrm>
        <a:graphic>
          <a:graphicData uri="http://schemas.openxmlformats.org/drawingml/2006/table">
            <a:tbl>
              <a:tblPr/>
              <a:tblGrid>
                <a:gridCol w="3240360"/>
                <a:gridCol w="28810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alog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COLUMNS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um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C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FUNCS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INDEX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e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KEYS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PROCS 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AB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RIGGER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g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VI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 for Catalog Tabl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661760"/>
            <a:ext cx="92170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table with a long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cc"/>
                </a:solidFill>
                <a:latin typeface="Courier New"/>
              </a:rPr>
              <a:t>SELECT TABLE_NAME, TABLE_SCHEMA FROM 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QSYS2/SYSTABLES</a:t>
            </a:r>
            <a:r>
              <a:rPr b="1" lang="en-CA" sz="2800" spc="-1" strike="noStrike">
                <a:solidFill>
                  <a:srgbClr val="3333cc"/>
                </a:solidFill>
                <a:latin typeface="Courier New"/>
              </a:rPr>
              <a:t> WHERE   </a:t>
            </a:r>
            <a:br>
              <a:rPr sz="2800"/>
            </a:br>
            <a:r>
              <a:rPr b="1" lang="en-CA" sz="2800" spc="-1" strike="noStrike">
                <a:solidFill>
                  <a:srgbClr val="3333cc"/>
                </a:solidFill>
                <a:latin typeface="Courier New"/>
              </a:rPr>
              <a:t>TABLE_NAME = 'MONTH_TO_DATE_SALE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is column (field) nam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SELECT * FROM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QSYS2/SYSCOLUMNS 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 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WHERE COLUMN_NAME LIKE '%MCU%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leting objects with SQ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92170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with a DROP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T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ops dependent obj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Unlike CL commands (e.g. you c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delete a PF via DLTF if there are dependent logical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ealing with Multi-Member (conventional) iSeries FILES with SQL 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5690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Courier New"/>
              </a:rPr>
              <a:t>CREAT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IAS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LIBRARY1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ALES_HIST_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LIBRARY1/SALESHIST(MBR_HST_99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Courier New"/>
              </a:rPr>
              <a:t>CREAT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LIAS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LIBRARY1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ALES_HIST_2000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LIBRARY1/SALESHIST(MBR_HST_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5092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allows the targeting of individual members with the use of an AL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68360" y="458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from an individual member can then be retrieved from an individual me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9280" y="5776920"/>
            <a:ext cx="8569440" cy="9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SELECT * FROM LIBRARY1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ALES_HIST_199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Courier New"/>
              </a:rPr>
              <a:t>SELECT * FROM LIBRARY1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ALES_HIST_2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4992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50920" y="1773360"/>
            <a:ext cx="8532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DDL, you can create or alte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L allows table and column names to be longer than 10 charac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DL Objects can be found in the SQL Catalog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QL Catalog files start with SYS* and can be found in library QSY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826920" y="260280"/>
            <a:ext cx="6913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DL Summar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0"/>
            <a:ext cx="889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  <a:ea typeface="Times New Roman"/>
              </a:rPr>
              <a:t>SQL Implementation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  <a:ea typeface="Times New Roman"/>
              </a:rPr>
              <a:t>- Interpreted SQL -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28760" y="2133720"/>
            <a:ext cx="871524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preted SQ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UNSQLS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RQM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iest to impl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est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24000" y="549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General Interpreted SQL Characterist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8360" y="5205240"/>
            <a:ext cx="83185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use CASE Statements but not IF/Then/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95280" y="1965240"/>
            <a:ext cx="8318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an be used for Set Processing ONLY (as opposed to individual row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95280" y="3332160"/>
            <a:ext cx="8318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annot receive parame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30200" y="4197240"/>
            <a:ext cx="8318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use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4200" y="-214200"/>
            <a:ext cx="91440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333399"/>
                </a:solidFill>
                <a:latin typeface="Tahoma"/>
              </a:rPr>
              <a:t>Agenda </a:t>
            </a: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424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Data Definition Language: D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QL as an Interpret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nterpreted SQ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UNSQL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TR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QL as a Compiled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QL Store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SQL Function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SQL Performance Consid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24000" y="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Running Interpreted 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ith RUNSQLSTM: Code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13840" y="3071880"/>
            <a:ext cx="8425080" cy="2286000"/>
          </a:xfrm>
          <a:prstGeom prst="rect">
            <a:avLst/>
          </a:prstGeom>
          <a:solidFill>
            <a:srgbClr val="fed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SERT INTO EX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EL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FIRST_NAME,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LAST_NAME,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ROM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AYROLL PR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WHERE (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L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SALARY IS &gt; 1000000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44360" y="134136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RUNSQLSTM LIBRARY/FILE ME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Sample Sour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857920" y="3143160"/>
            <a:ext cx="31431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urce can contain multiple statements separated by a “;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6215040" y="4068720"/>
            <a:ext cx="2589120" cy="9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14200" y="5500800"/>
            <a:ext cx="7858080" cy="15249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ill yield a separate acknowledgement for each statement in the lis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ahoma"/>
              </a:rPr>
              <a:t>Number of rows inserted, deleted or upd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ahoma"/>
              </a:rPr>
              <a:t>Success or fail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ahoma"/>
              </a:rPr>
              <a:t>Easy to debu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24000" y="62064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Running Interpreted 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ith RUNSQLSTM: Syntax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79280" y="2349360"/>
            <a:ext cx="87854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One comm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from a command 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- from within a 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Courier New"/>
              </a:rPr>
              <a:t>RUNSQLSTM </a:t>
            </a:r>
            <a:r>
              <a:rPr b="1" lang="en-CA" sz="3600" spc="-1" strike="noStrike">
                <a:solidFill>
                  <a:srgbClr val="3333cc"/>
                </a:solidFill>
                <a:latin typeface="Courier New"/>
              </a:rPr>
              <a:t>LIBRARY/FILE MEMB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2720" y="-27360"/>
            <a:ext cx="7920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ssing a "Lazy" parameter using CROSS JOI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216080"/>
            <a:ext cx="849636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flexibility when using Interpreted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an Riehl's </a:t>
            </a:r>
            <a:r>
              <a:rPr b="0" lang="en-US" sz="2800" spc="-1" strike="noStrike">
                <a:solidFill>
                  <a:srgbClr val="750d75"/>
                </a:solidFill>
                <a:latin typeface="Arial"/>
              </a:rPr>
              <a:t>EXC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1-ROW Parameter table to cross join (no multiplying ef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0920" y="5013360"/>
            <a:ext cx="86281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</a:rPr>
              <a:t>SQL Join: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SELECT EMPLOYEE_NUMBER, FIRST_NAME, LAST_NAME FROM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EMPLOYEE_TABLE</a:t>
            </a:r>
            <a:r>
              <a:rPr b="1" lang="en-CA" sz="2400" spc="-1" strike="noStrike">
                <a:solidFill>
                  <a:srgbClr val="ff0000"/>
                </a:solidFill>
                <a:latin typeface="Courier New"/>
              </a:rPr>
              <a:t> CROSS JOIN </a:t>
            </a:r>
            <a:r>
              <a:rPr b="1" lang="en-CA" sz="2400" spc="-1" strike="noStrike">
                <a:solidFill>
                  <a:srgbClr val="336600"/>
                </a:solidFill>
                <a:latin typeface="Courier New"/>
              </a:rPr>
              <a:t>PARM_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WHERE EMPLOYEE_PROVINCE = </a:t>
            </a:r>
            <a:r>
              <a:rPr b="1" lang="en-CA" sz="2400" spc="-1" strike="noStrike">
                <a:solidFill>
                  <a:srgbClr val="336600"/>
                </a:solidFill>
                <a:latin typeface="Courier New"/>
              </a:rPr>
              <a:t>PARM_TABLE.PA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0920" y="3139920"/>
            <a:ext cx="8642160" cy="17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CL Program:</a:t>
            </a:r>
            <a:r>
              <a:rPr b="1" lang="en-CA" sz="2400" spc="-1" strike="noStrike">
                <a:solidFill>
                  <a:srgbClr val="750d75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50d75"/>
                </a:solidFill>
                <a:latin typeface="Courier New"/>
              </a:rPr>
              <a:t>EXCSQL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EQUEST( UPDATE PARM_TA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SET PARM =</a:t>
            </a:r>
            <a:r>
              <a:rPr b="1" lang="en-CA" sz="2400" spc="-1" strike="noStrike">
                <a:solidFill>
                  <a:srgbClr val="336600"/>
                </a:solidFill>
                <a:latin typeface="Courier New"/>
              </a:rPr>
              <a:t>'ALBERTA'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RUNSQLSTM SRCFILE(SQLSRC) SRCMBR(</a:t>
            </a:r>
            <a:r>
              <a:rPr b="1" lang="en-CA" sz="2400" spc="-1" strike="noStrike">
                <a:solidFill>
                  <a:srgbClr val="ff0000"/>
                </a:solidFill>
                <a:latin typeface="Courier New"/>
              </a:rPr>
              <a:t>EMPSQL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9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5320" y="1999800"/>
            <a:ext cx="8915400" cy="4714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 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 with Query Manager Queries 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Library  . . . . . . . . . . .   EPBQMLIB     Name, F4 for list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Query creation mode  . . . . :   SQL                              </a:t>
            </a: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Type options, press Enter.                                                    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1=Create   2=Change   3=Copy   4=Delete   5=Display   6=Print   7=Rename    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9=Run      10=Convert to SQL                                                 </a:t>
            </a:r>
            <a:br>
              <a:rPr sz="1300"/>
            </a:b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Opt  Query       Type      Description                 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           SQL       Analysis on TLHE1 vs MP01   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BBDUP2     SQL       Find duplicate abbreviations 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DDR_BOOK   SQL       Extract employee number and name from address book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LL_BUCSDT  SQL       Extract to Access, CPL, Mat Mst Basic Data CSDT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LL_BUHIBE  SQL       Extract to Access, CPL, Mat Mst Basic Data HIBE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LLITEMBU   SQL       Extract to Access, CPL, Mat Mst Basic Data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CA" sz="13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AP_VENDOR   SQL       AP Vendors not in Vendor list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 More...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F3=Exit   F4=Prompt      F5=Refresh   F11=Display query only   F12=Cancel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F16=Repeat position to   F17=Position to   F24=More keys                       </a:t>
            </a:r>
            <a:br>
              <a:rPr sz="1300"/>
            </a:b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</a:t>
            </a:r>
            <a:r>
              <a:rPr b="1" lang="en-CA" sz="13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42920" y="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Running Interpreted 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ith Query Manager: Code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44360" y="134136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How to evoke: </a:t>
            </a:r>
            <a:r>
              <a:rPr b="1" lang="en-CA" sz="4000" spc="-1" strike="noStrike">
                <a:solidFill>
                  <a:srgbClr val="ff0000"/>
                </a:solidFill>
                <a:latin typeface="Courier New"/>
              </a:rPr>
              <a:t>STRQ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572160" y="3571920"/>
            <a:ext cx="2071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 the PDM-like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99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2920" y="1143000"/>
            <a:ext cx="8786880" cy="5500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9900"/>
            </a:solidFill>
            <a:miter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QL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 Beginning of Data ******************************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.00 -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2.00 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3.00 -- QM to find a JS Job, based on its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4.00 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5.00 -----------------------------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6.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7.00    SELECT T1.JMJOB, T1.JMGRP, T1.JMSEQ, T1.JMTEXT, T2.CMCSEQ, T2.CMCM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8.00    FROM QUSRIJS/QAIJSMST T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09.00    JOIN QUSRIJS/QAIJS1CM T2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0.00    (T1.JMJOB = T2.CMJOB AND T1.JMGRP = T2.CMGR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1.00    AND T1.JMSEQ = T2.CMSEQ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2.00    WHERE -- T2.CMCMD     like '%EPBPRSLIB%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3.00          T2.CMCMD     like '%GR%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4.00      AND T1.JMGRP     like '%EPB_CPL%’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5.00    ORDER BY T1.JMGRP, T1.JMSEQ, T2.CMCSEQ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.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******************* End of Data *********************************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2=Alternate keys   F3=Exit   F4=Prompt    F5=Run report   F6=Run s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F9=Retrieve         F15=Check syntax       F24=More k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</a:t>
            </a:r>
            <a:r>
              <a:rPr b="0" lang="en-CA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42920" y="-142920"/>
            <a:ext cx="878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Running Interpreted SQ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ith Query Manager: Code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57200" y="1428840"/>
            <a:ext cx="29289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M editor looks like PDM  - it is actually much wea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d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286680" y="5214960"/>
            <a:ext cx="2071440" cy="916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M offers syntax checking on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od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3"/>
          <p:cNvSpPr/>
          <p:nvPr/>
        </p:nvSpPr>
        <p:spPr>
          <a:xfrm flipH="1">
            <a:off x="642960" y="2071800"/>
            <a:ext cx="79056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3"/>
          <p:cNvSpPr/>
          <p:nvPr/>
        </p:nvSpPr>
        <p:spPr>
          <a:xfrm flipH="1">
            <a:off x="3786120" y="5857920"/>
            <a:ext cx="250056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5786280" y="4071960"/>
            <a:ext cx="2357640" cy="91692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e statement capa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way it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04480" y="785880"/>
            <a:ext cx="4295880" cy="5857920"/>
          </a:xfrm>
          <a:prstGeom prst="rect">
            <a:avLst/>
          </a:prstGeom>
          <a:solidFill>
            <a:srgbClr val="fed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Courier New"/>
              </a:rPr>
              <a:t>RUNSQLS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s STRPDM source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handle multiple SQL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an existing table to receive output of a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24000" y="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RUNSQLSTM vs STRQ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643280" y="785880"/>
            <a:ext cx="4295880" cy="5857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Courier New"/>
              </a:rPr>
              <a:t>STRQM/STRQMQ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an create its own outpu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llows to display or print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an accept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ses QM source editor (not goo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an handle only a single SQL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0"/>
            <a:ext cx="889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  <a:ea typeface="Times New Roman"/>
              </a:rPr>
              <a:t>SQL Implementation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  <a:ea typeface="Times New Roman"/>
              </a:rPr>
              <a:t>- Compiled SQL -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28760" y="2924280"/>
            <a:ext cx="82468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mpiled SQL – SQL ONL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QL Stored Proced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QL UDF – User Defined Fun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539640" y="2602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QL Stored Procedures Characterist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573408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Logic constructs (if/then/else, do/for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0920" y="2004840"/>
            <a:ext cx="867564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into Executable CLE type *PGM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2360" y="2924280"/>
            <a:ext cx="842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bugged like any CLE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0920" y="3860640"/>
            <a:ext cx="835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bug to retrieve SQL Optimiz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52360" y="4724280"/>
            <a:ext cx="806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Parameters,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2484360" y="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tored Procedure Example 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 simple Up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1925640"/>
            <a:ext cx="392436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REATE PROCEDURE PROC_NAME LANGUAGE SQL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 THIS PROCEDURE WILL, FOR EACH ROW OF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 TABLE ER400SX, RETRIEVE THE CURRENT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 TIMESTAMP AND UPDATE THE COLUMN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 PUBLISH_TMS WITHIN ER400SX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urier New"/>
              </a:rPr>
              <a:t>-- BEGIN PROCEDUR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urier New"/>
              </a:rPr>
              <a:t>BEGIN  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 DECLARE CURSOR VARIABLES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SQLTEXT             CHAR(70)  ;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WORK_RESULTS_REPORT CHAR(3)  ;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INT_RESULTS_REPORT   INT  ;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PUBLISH_TMS    TIMESTAMP ;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WORK_TIMESTAMP TIMESTAMP ;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SQLSTATE CHAR(5) DEFAULT '00000'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RECORD_COUNT INT DEFAULT   0 ;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AT_END INT DEFAULT 0 ;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DECLARE SQLCODE INT DEFAULT 0 ;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CLARE SQL_EXCEPTION INT ;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DECLARE CONTINUE HANDLER FOR SQLEXCEPTION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GET DIAGNOSTICS EXCEPTION 1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SQLTEXT = MESSAGE_TEXT;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DECLARE CURSOR_UPD CURSOR FOR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SELECT PUBLISH_TMS, RESULTS_REPORT FROM ER400S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MAIN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851280" y="2438280"/>
            <a:ext cx="529272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OPEN CURSOR_UPD ;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FETCH CURSOR_UPD INTO WORK_TIMESTAMP,  WORK_RESULTS_REPOR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ff"/>
                </a:solidFill>
                <a:latin typeface="Courier New"/>
              </a:rPr>
              <a:t>WHILE (SQLCODE = 0) DO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SET INT_RESULTS_REPORT = INT(WORK_RESULTS_REPORT);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urier New"/>
              </a:rPr>
              <a:t>IF SQLCODE &lt;&gt; 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THEN  GET DIAGNOSTICS RECORD_COUNT = ROW_COUNT;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CALL DW$LOG('PROC_NAME',-1,SQLTEXT,-1,'INVALID INPUT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PARAMETER "RESULTS_REPORT"',RECORD_COUNT) 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Courier New"/>
              </a:rPr>
              <a:t>SET SQLCODE = 0; -- RESET SQLCOD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 UPDATE ER400SX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PUBLISH_TMS = CURRENT TIMESTAMP,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IME_ELAPSED = DAY(CURRENT TIMESTAMP - WORK_TIMESTAMP)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ERE CURRENT OF CURSOR_UPD ;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 IF  ;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ETCH CURSOR_UPD INTO WORK_TIMESTAMP,  WORK_RESULTS_REPOR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 WHILE  ;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CURSOR_UPD ;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urier New"/>
              </a:rPr>
              <a:t>-- END PROCEDURE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Courier New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7240" y="620640"/>
            <a:ext cx="3938400" cy="1465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dure not always = me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 instruction does not repl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ion by default in the current li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250920" y="155736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6445080" y="1484280"/>
            <a:ext cx="2590920" cy="916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 of handling individual exception rec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9"/>
          <p:cNvSpPr/>
          <p:nvPr/>
        </p:nvSpPr>
        <p:spPr>
          <a:xfrm flipH="1">
            <a:off x="7956360" y="2421000"/>
            <a:ext cx="93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5796000" y="5734080"/>
            <a:ext cx="2590920" cy="916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inue Handler prevents SQL from crashing on bad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11"/>
          <p:cNvSpPr/>
          <p:nvPr/>
        </p:nvSpPr>
        <p:spPr>
          <a:xfrm flipH="1" flipV="1">
            <a:off x="2411280" y="5950080"/>
            <a:ext cx="33847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4067280" y="1424160"/>
            <a:ext cx="2160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sor slows down SQL to row-by-row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13"/>
          <p:cNvSpPr/>
          <p:nvPr/>
        </p:nvSpPr>
        <p:spPr>
          <a:xfrm flipH="1">
            <a:off x="5579640" y="234936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2843280" y="4941720"/>
            <a:ext cx="863640" cy="64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CO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r SQL Statu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17"/>
          <p:cNvSpPr/>
          <p:nvPr/>
        </p:nvSpPr>
        <p:spPr>
          <a:xfrm flipH="1">
            <a:off x="2484000" y="5084640"/>
            <a:ext cx="3589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teps to Create and Run a Stored Proced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24000" y="4500720"/>
            <a:ext cx="8532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NOTE: SQL procedure objects </a:t>
            </a:r>
            <a:br>
              <a:rPr sz="2800"/>
            </a:b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</a:rPr>
              <a:t>have to be called in an SQ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yntax: CALL PROCEDURE_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214200" y="1494000"/>
            <a:ext cx="8391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stored procedure in a standard source memb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4200" y="2421000"/>
            <a:ext cx="89298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Create the stored procedure in your current library (CURLIB) using RUNSQLST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nless specified differently the stored procedure to be created in the CURRENT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94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DDL: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QL Terminolog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5280" y="1413000"/>
          <a:ext cx="8496360" cy="4800600"/>
        </p:xfrm>
        <a:graphic>
          <a:graphicData uri="http://schemas.openxmlformats.org/drawingml/2006/table">
            <a:tbl>
              <a:tblPr/>
              <a:tblGrid>
                <a:gridCol w="4449600"/>
                <a:gridCol w="4046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e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Q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rar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ction or Sch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cal Fi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um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l Fi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ew or Inde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urn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 Fi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4 Ways to call an SQL Stored Proced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14200" y="5572080"/>
            <a:ext cx="853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sing Dan Riehl's EXCSQ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87280" y="1197000"/>
            <a:ext cx="85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active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from the STRSQL command pro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87280" y="2349360"/>
            <a:ext cx="853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Batc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using the RUNSQLSTM with an SQL source member containing the CALL to the SQL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50920" y="3933720"/>
            <a:ext cx="85327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sing the QMQ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Query Manager Query) – The instruction is STRQMQRY and the QMQRY member should contain the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Debugging an SQL Stored Proced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50920" y="5418000"/>
            <a:ext cx="874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ahoma"/>
              </a:rPr>
              <a:t>Once the procedure is compiled, </a:t>
            </a:r>
            <a:br>
              <a:rPr sz="3000"/>
            </a:br>
            <a:r>
              <a:rPr b="0" lang="en-CA" sz="3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STRDBG PGM(PROC_NAME) UPDPROD(*YES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250920" y="1052640"/>
            <a:ext cx="874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 be debuggable, the procedure has to be “created in a debuggable mode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250920" y="220500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RUNSQLSTM</a:t>
            </a:r>
            <a:r>
              <a:rPr b="0" lang="en-CA" sz="3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DBGVIEW(*LIST) </a:t>
            </a:r>
            <a:r>
              <a:rPr b="0" lang="en-CA" sz="3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DBGVIEW(*SOURC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250920" y="3429000"/>
            <a:ext cx="874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DBGVIEW(*LIST)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vides a C view of the co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50920" y="4265640"/>
            <a:ext cx="8748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DBGVIEW(*SOURCE)</a:t>
            </a: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vides an SQL view of the co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QL Stored Procedure File Operation Debugging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SQLCOD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50920" y="1790640"/>
            <a:ext cx="853272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SQLCODE</a:t>
            </a:r>
            <a:r>
              <a:rPr b="1" lang="en-US" sz="3000" spc="-1" strike="noStrike">
                <a:solidFill>
                  <a:srgbClr val="105638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results indicator variable affected by each database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Zero value in the </a:t>
            </a: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SQL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dicates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 see the value of the </a:t>
            </a: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SQLC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ariable, use </a:t>
            </a: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EVAL SQLCO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SQLCOD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ctually part of a larger system data structure. To see it, 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EVAL sqlc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ynamic SQL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wo Kinds of Dynamic SQL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fficial and non-offici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1785960"/>
            <a:ext cx="8391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When and Why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s a general rule use dynamic SQL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en you cannot use static SQL to accomplish your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14200" y="3857760"/>
            <a:ext cx="89298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Use w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The data type Number of variables, cond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umber of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bjects referre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re not known or do not exist at time of stored procedure compi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996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Dynamic SQL – The Official Technique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A Working Code Example!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"/>
          <p:cNvSpPr/>
          <p:nvPr/>
        </p:nvSpPr>
        <p:spPr>
          <a:xfrm flipH="1" flipV="1">
            <a:off x="8357760" y="3285720"/>
            <a:ext cx="7164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786200" y="5425920"/>
            <a:ext cx="4162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arameters change dynamically with each turn of the lo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11"/>
          <p:cNvSpPr/>
          <p:nvPr/>
        </p:nvSpPr>
        <p:spPr>
          <a:xfrm flipH="1" flipV="1">
            <a:off x="3000240" y="5643360"/>
            <a:ext cx="2795760" cy="88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714240" y="6211800"/>
            <a:ext cx="8001000" cy="642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 the core Statement. Note the 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?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haracters, where the parameters will be replaced dynamica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7"/>
          <p:cNvSpPr/>
          <p:nvPr/>
        </p:nvSpPr>
        <p:spPr>
          <a:xfrm flipH="1" flipV="1">
            <a:off x="7643880" y="3285720"/>
            <a:ext cx="644400" cy="21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15"/>
          <p:cNvSpPr/>
          <p:nvPr/>
        </p:nvSpPr>
        <p:spPr>
          <a:xfrm>
            <a:off x="0" y="1292400"/>
            <a:ext cx="72867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  Test Dynamic SQL Statement Creation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  This program will insert 10 consecutive records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  in a test table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  using DYNAMIC SQL TECHIQUE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*******************************************************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 CREATE PROCEDURE DYNSQLTEST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ANGUAGE SQL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 SET OPTION OUTPUT = *PRINT, DBGVIEW = *SOURCE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 -- START PROCEDURE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-- DECLARE CURSOR VARIABLES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SQLSTATE     CHAR(5) DEFAULT '00000'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SQLCODE      INT DEFAULT 0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AT_END       INT DEFAULT 0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LOOPVAR1     INT          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LOOPTMS      TIMESTAMP    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DECLARE SQLDYNCMD    CHAR(250)    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SET SQLDYNCMD =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</a:t>
            </a:r>
            <a:r>
              <a:rPr b="1" lang="en-CA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  'INSERT INTO DYNTABLE VALUES( ?,  ? ) '           </a:t>
            </a: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 SET LOOPVAR1  = 0                                 ;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4429080" y="1285920"/>
            <a:ext cx="650088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br>
              <a:rPr sz="1000"/>
            </a:br>
            <a:br>
              <a:rPr sz="1000"/>
            </a:br>
            <a:r>
              <a:rPr b="0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0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S_LOOP: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 LOOP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IF LOOPVAR1 &lt; 10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 THEN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 SET LOOPVAR1 = LOOPVAR1 + 1      ;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 SET LOOPTMS  = CURRENT TIMESTAMP ;</a:t>
            </a:r>
            <a:r>
              <a:rPr b="1" lang="en-CA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  </a:t>
            </a: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 </a:t>
            </a:r>
            <a:r>
              <a:rPr b="1" lang="en-CA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PREPARE DYN_INSERT FROM SQLDYNCMD ;   </a:t>
            </a: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 </a:t>
            </a:r>
            <a:r>
              <a:rPr b="1" lang="en-CA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EXECUTE DYN_INSERT USING  LOOPVAR1, LOOPTMS ; </a:t>
            </a: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 ELSE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 LEAVE INS_LOOP ;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 END IF    ;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END LOOP  ;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                                                       </a:t>
            </a:r>
            <a:br>
              <a:rPr sz="1000"/>
            </a:br>
            <a:r>
              <a:rPr b="1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 END OF PROCEDURE --                                </a:t>
            </a:r>
            <a:r>
              <a:rPr b="0" lang="en-CA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  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2720" y="285480"/>
            <a:ext cx="7920000" cy="78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ynamic SQL using EXCSQ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49636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an Riehl's </a:t>
            </a:r>
            <a:r>
              <a:rPr b="0" lang="en-US" sz="2800" spc="-1" strike="noStrike">
                <a:solidFill>
                  <a:srgbClr val="750d75"/>
                </a:solidFill>
                <a:latin typeface="Arial"/>
              </a:rPr>
              <a:t>EXC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evoking SQL in a CL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fixed quoted string as a param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14200" y="4000680"/>
            <a:ext cx="86425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CL Program:</a:t>
            </a:r>
            <a:r>
              <a:rPr b="1" lang="en-CA" sz="2400" spc="-1" strike="noStrike">
                <a:solidFill>
                  <a:srgbClr val="750d75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50d75"/>
                </a:solidFill>
                <a:latin typeface="Courier New"/>
              </a:rPr>
              <a:t>EXCSQL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EQUEST('SELECT EMPLOYEE_NUMBER, EMPLOYEE_NAME WHERE SALARY &gt; 500000'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50d75"/>
                </a:solidFill>
                <a:latin typeface="Courier New"/>
              </a:rPr>
              <a:t>EXCSQL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EQUEST(&amp;SQL_CM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40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QL Modular Programming with Functions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Recycle that cod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79280" y="2349360"/>
            <a:ext cx="8785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SQL FUNCTION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creation of your own functions in the same way that you can create your own comman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functions can receive many but will onl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tur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 singl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parameter 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The Mechanics of SQL Func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95280" y="4724280"/>
            <a:ext cx="85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means the function cannot be called on its 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24000" y="1125360"/>
            <a:ext cx="85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mpile a function, use the </a:t>
            </a:r>
            <a:r>
              <a:rPr b="1" lang="en-US" sz="3000" spc="-1" strike="noStrike">
                <a:solidFill>
                  <a:srgbClr val="105638"/>
                </a:solidFill>
                <a:latin typeface="Courier New"/>
                <a:ea typeface="Courier New"/>
              </a:rPr>
              <a:t>RUNSQLS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mand, just like creating a Stored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95280" y="3068640"/>
            <a:ext cx="85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functions compile into objects of type </a:t>
            </a:r>
            <a:r>
              <a:rPr b="1" lang="en-US" sz="3000" spc="-1" strike="noStrike">
                <a:solidFill>
                  <a:srgbClr val="009900"/>
                </a:solidFill>
                <a:latin typeface="Courier New"/>
                <a:ea typeface="Courier New"/>
              </a:rPr>
              <a:t>*SRVPG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0" y="-936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SQL Function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 A simple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Translating a JDE Julian Date to MDY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24000" y="3139920"/>
            <a:ext cx="849600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REATE FUNCTION XJDETOMDY (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IN_JDE_DAT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INT)    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S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DAT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                                   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NGUAGE SQL                                   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EGIN                                          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CLARE 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OUT_YM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DATE ;                      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OUT_YM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= DATE(CHAR(1900000+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IN_JDE_DAT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)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(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OUT_YM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;                              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D   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413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QL Function Code Execu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87280" y="1844640"/>
            <a:ext cx="831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YJJJ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LECT XJDETOMDY(105144) FROM SYSIBM/SYSDUMMY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5/24/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675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QL User-Defined Function Processing Consid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95280" y="213372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r Defined Fun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* Save programming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* Help ensure processing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95280" y="479736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 awar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often is a performance co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calling a U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042920" y="3933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HOWE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DDL: Data Definition Language </a:t>
            </a:r>
            <a:br>
              <a:rPr sz="4000"/>
            </a:b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- Used to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 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defined with DDL can be accessed with both SQL and Traditional languages like RPG/C/CO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Promotion &amp; Implementation Consider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50920" y="1773360"/>
            <a:ext cx="8532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scale use of SQL in production requires some promotion control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can be implemented without compilation – Ensure your security is setup so that you control what can enter your production SQL source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is different from other conventional languages. Ensure your promotion control software can handle SQL code/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142920" y="285840"/>
            <a:ext cx="889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  <a:ea typeface="Times New Roman"/>
              </a:rPr>
              <a:t>Part 3: Indexe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00040" y="1714680"/>
            <a:ext cx="79297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dexes, Views and Logical Fi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sure your indexes are used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oins Performance Bas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QL Performance To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Performance Ti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57120" y="57168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Indexes: Key Characteristics,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879480" y="272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17859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K Logical Page Size vs. 8 K for Logical F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use Encoded Vector Index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0" y="385776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upport for SELECT/OMIT filtering (as well as having key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this is available in logical fi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upport for join logical file equival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7632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71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Common Sense Indexing: What do you need?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-&gt; Your index should match you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250920" y="189000"/>
            <a:ext cx="860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57200" y="1371600"/>
            <a:ext cx="5867280" cy="213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LECT CUSTOMER, CUSTOMER_NUMBER, ITEM_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OM ITEMS_SHIPP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RDER_YE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200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RDER_QUART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USTOMER_CATEGO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'DRILLER'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HIPMO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= 'GROUND'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ER BY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USTOMER_NUMBER, ITEM_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57200" y="3733920"/>
            <a:ext cx="586728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 INDEX ITEM_INDEX_SHIPP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ITEM_SHIPP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YEAR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QUARTER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RETURNFLAG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HIPMODE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USTOMER_NUMBER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TEM_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6324480" y="1371600"/>
            <a:ext cx="457200" cy="5334120"/>
          </a:xfrm>
          <a:custGeom>
            <a:avLst/>
            <a:gdLst>
              <a:gd name="textAreaLeft" fmla="*/ 0 w 457200"/>
              <a:gd name="textAreaRight" fmla="*/ 164880 w 457200"/>
              <a:gd name="textAreaTop" fmla="*/ 138960 h 5334120"/>
              <a:gd name="textAreaBottom" fmla="*/ 519516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727680" y="2971800"/>
            <a:ext cx="248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ahoma"/>
              </a:rPr>
              <a:t>Common sen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ahoma"/>
              </a:rPr>
              <a:t>Ensure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ahoma"/>
              </a:rPr>
              <a:t>Matches y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ahom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0" y="500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Cheap and Easy Performance Tip #1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ahoma"/>
                <a:ea typeface="Times New Roman"/>
              </a:rPr>
              <a:t>Unique Keys are Fast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50920" y="2643120"/>
            <a:ext cx="8532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357120" y="4286160"/>
            <a:ext cx="85327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hy? Because once a UNIQUE KEY is found, there is not need to look any further!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28760" y="2500200"/>
            <a:ext cx="757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IQUE KEYS are FASTER than ones that are not uni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500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Cheap and Easy Performance Tip #2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ahoma"/>
                <a:ea typeface="Times New Roman"/>
              </a:rPr>
              <a:t>Batch is FAST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250920" y="2643120"/>
            <a:ext cx="8532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28760" y="2500200"/>
            <a:ext cx="757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QL is designed to handle data in large chunks. This is best done in BATCH!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-27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Make the most out of your indexes: The Cardinality Rul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539640" y="189000"/>
            <a:ext cx="8604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x cardinalit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he number of unique values in the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rdinality Rule: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Keys must be set in increasing order of cardi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Flowchart: Process 9"/>
          <p:cNvSpPr/>
          <p:nvPr/>
        </p:nvSpPr>
        <p:spPr>
          <a:xfrm>
            <a:off x="71280" y="3786120"/>
            <a:ext cx="1571760" cy="3385800"/>
          </a:xfrm>
          <a:prstGeom prst="flowChartProcess">
            <a:avLst/>
          </a:prstGeom>
          <a:solidFill>
            <a:srgbClr val="00b0f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1,000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lowchart: Process 10"/>
          <p:cNvSpPr/>
          <p:nvPr/>
        </p:nvSpPr>
        <p:spPr>
          <a:xfrm>
            <a:off x="3071880" y="3714840"/>
            <a:ext cx="1214280" cy="146556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lowchart: Process 11"/>
          <p:cNvSpPr/>
          <p:nvPr/>
        </p:nvSpPr>
        <p:spPr>
          <a:xfrm>
            <a:off x="3071880" y="5165640"/>
            <a:ext cx="1214280" cy="1465560"/>
          </a:xfrm>
          <a:prstGeom prst="flowChartProcess">
            <a:avLst/>
          </a:prstGeom>
          <a:solidFill>
            <a:srgbClr val="3e3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Flowchart: Process 12"/>
          <p:cNvSpPr/>
          <p:nvPr/>
        </p:nvSpPr>
        <p:spPr>
          <a:xfrm>
            <a:off x="5892840" y="3714840"/>
            <a:ext cx="1285920" cy="368280"/>
          </a:xfrm>
          <a:prstGeom prst="flowChartProcess">
            <a:avLst/>
          </a:prstGeom>
          <a:solidFill>
            <a:srgbClr val="cc00ff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Flowchart: Process 13"/>
          <p:cNvSpPr/>
          <p:nvPr/>
        </p:nvSpPr>
        <p:spPr>
          <a:xfrm>
            <a:off x="5892840" y="4071960"/>
            <a:ext cx="1285920" cy="368280"/>
          </a:xfrm>
          <a:prstGeom prst="flowChartProcess">
            <a:avLst/>
          </a:prstGeom>
          <a:solidFill>
            <a:srgbClr val="987b00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Eas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Flowchart: Process 14"/>
          <p:cNvSpPr/>
          <p:nvPr/>
        </p:nvSpPr>
        <p:spPr>
          <a:xfrm>
            <a:off x="5892840" y="4429080"/>
            <a:ext cx="1285920" cy="368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orth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Flowchart: Process 15"/>
          <p:cNvSpPr/>
          <p:nvPr/>
        </p:nvSpPr>
        <p:spPr>
          <a:xfrm>
            <a:off x="5892840" y="4786200"/>
            <a:ext cx="1285920" cy="368280"/>
          </a:xfrm>
          <a:prstGeom prst="flowChartProcess">
            <a:avLst/>
          </a:prstGeom>
          <a:solidFill>
            <a:srgbClr val="92d050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uth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Flowchart: Process 20"/>
          <p:cNvSpPr/>
          <p:nvPr/>
        </p:nvSpPr>
        <p:spPr>
          <a:xfrm>
            <a:off x="5892840" y="5143680"/>
            <a:ext cx="1285920" cy="36828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lowchart: Process 21"/>
          <p:cNvSpPr/>
          <p:nvPr/>
        </p:nvSpPr>
        <p:spPr>
          <a:xfrm>
            <a:off x="5892840" y="5500800"/>
            <a:ext cx="1285920" cy="368280"/>
          </a:xfrm>
          <a:prstGeom prst="flowChartProcess">
            <a:avLst/>
          </a:prstGeom>
          <a:solidFill>
            <a:srgbClr val="0070c0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East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Flowchart: Process 22"/>
          <p:cNvSpPr/>
          <p:nvPr/>
        </p:nvSpPr>
        <p:spPr>
          <a:xfrm>
            <a:off x="5892840" y="5857920"/>
            <a:ext cx="1285920" cy="368280"/>
          </a:xfrm>
          <a:prstGeom prst="flowChartProcess">
            <a:avLst/>
          </a:prstGeom>
          <a:solidFill>
            <a:srgbClr val="bfbfbf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orth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Flowchart: Process 23"/>
          <p:cNvSpPr/>
          <p:nvPr/>
        </p:nvSpPr>
        <p:spPr>
          <a:xfrm>
            <a:off x="5892840" y="6215040"/>
            <a:ext cx="1285920" cy="368280"/>
          </a:xfrm>
          <a:prstGeom prst="flowChartProcess">
            <a:avLst/>
          </a:prstGeom>
          <a:solidFill>
            <a:srgbClr val="c09c00"/>
          </a:solidFill>
          <a:ln w="9360">
            <a:solidFill>
              <a:srgbClr val="98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uthe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Notched Right Arrow 24"/>
          <p:cNvSpPr/>
          <p:nvPr/>
        </p:nvSpPr>
        <p:spPr>
          <a:xfrm>
            <a:off x="1143000" y="4106880"/>
            <a:ext cx="2214720" cy="2742840"/>
          </a:xfrm>
          <a:custGeom>
            <a:avLst/>
            <a:gdLst>
              <a:gd name="textAreaLeft" fmla="*/ 553680 w 2214720"/>
              <a:gd name="textAreaRight" fmla="*/ 1661040 w 2214720"/>
              <a:gd name="textAreaTop" fmla="*/ 685800 h 2742840"/>
              <a:gd name="textAreaBottom" fmla="*/ 2057400 h 274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The first key selection reduces the records to search by 50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Box 25"/>
          <p:cNvSpPr/>
          <p:nvPr/>
        </p:nvSpPr>
        <p:spPr>
          <a:xfrm>
            <a:off x="412200" y="30002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abl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Box 26"/>
          <p:cNvSpPr/>
          <p:nvPr/>
        </p:nvSpPr>
        <p:spPr>
          <a:xfrm>
            <a:off x="2995560" y="30002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(cardinality: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Notched Right Arrow 27"/>
          <p:cNvSpPr/>
          <p:nvPr/>
        </p:nvSpPr>
        <p:spPr>
          <a:xfrm>
            <a:off x="3857760" y="4321080"/>
            <a:ext cx="2214360" cy="2742840"/>
          </a:xfrm>
          <a:custGeom>
            <a:avLst/>
            <a:gdLst>
              <a:gd name="textAreaLeft" fmla="*/ 553680 w 2214360"/>
              <a:gd name="textAreaRight" fmla="*/ 1661040 w 2214360"/>
              <a:gd name="textAreaTop" fmla="*/ 685800 h 2742840"/>
              <a:gd name="textAreaBottom" fmla="*/ 2057400 h 2742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The second key selection reduces the records to 1/8</a:t>
            </a:r>
            <a:r>
              <a:rPr b="1" lang="en-CA" sz="1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 of the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Box 29"/>
          <p:cNvSpPr/>
          <p:nvPr/>
        </p:nvSpPr>
        <p:spPr>
          <a:xfrm>
            <a:off x="5816520" y="30002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(cardinality: 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Box 31"/>
          <p:cNvSpPr/>
          <p:nvPr/>
        </p:nvSpPr>
        <p:spPr>
          <a:xfrm>
            <a:off x="8715240" y="6572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Box 32"/>
          <p:cNvSpPr/>
          <p:nvPr/>
        </p:nvSpPr>
        <p:spPr>
          <a:xfrm>
            <a:off x="3071880" y="4071960"/>
            <a:ext cx="11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½ of the records to look 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Box 34"/>
          <p:cNvSpPr/>
          <p:nvPr/>
        </p:nvSpPr>
        <p:spPr>
          <a:xfrm>
            <a:off x="5929200" y="4286160"/>
            <a:ext cx="122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1/16 of the records to look 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lowchart: Process 28"/>
          <p:cNvSpPr/>
          <p:nvPr/>
        </p:nvSpPr>
        <p:spPr>
          <a:xfrm>
            <a:off x="8072280" y="5072040"/>
            <a:ext cx="1071720" cy="1372680"/>
          </a:xfrm>
          <a:prstGeom prst="flowChartProcess">
            <a:avLst/>
          </a:prstGeom>
          <a:solidFill>
            <a:srgbClr val="0070c0"/>
          </a:solidFill>
          <a:ln w="93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ahoma"/>
              </a:rPr>
              <a:t>Eastern Europe Branch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ahoma"/>
              </a:rPr>
              <a:t>X  Custom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Notched Right Arrow 30"/>
          <p:cNvSpPr/>
          <p:nvPr/>
        </p:nvSpPr>
        <p:spPr>
          <a:xfrm>
            <a:off x="6715080" y="5214960"/>
            <a:ext cx="1428840" cy="917640"/>
          </a:xfrm>
          <a:custGeom>
            <a:avLst/>
            <a:gdLst>
              <a:gd name="textAreaLeft" fmla="*/ 228960 w 1428840"/>
              <a:gd name="textAreaRight" fmla="*/ 1199880 w 142884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75" y="5400"/>
                </a:lnTo>
                <a:lnTo>
                  <a:pt x="14675" y="0"/>
                </a:lnTo>
                <a:lnTo>
                  <a:pt x="21600" y="10800"/>
                </a:lnTo>
                <a:lnTo>
                  <a:pt x="14675" y="21600"/>
                </a:lnTo>
                <a:lnTo>
                  <a:pt x="14675" y="16200"/>
                </a:lnTo>
                <a:lnTo>
                  <a:pt x="0" y="16200"/>
                </a:lnTo>
                <a:lnTo>
                  <a:pt x="34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ahoma"/>
              </a:rPr>
              <a:t>Final Se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Box 31"/>
          <p:cNvSpPr/>
          <p:nvPr/>
        </p:nvSpPr>
        <p:spPr>
          <a:xfrm>
            <a:off x="7715160" y="2857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(Cardinality: 1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Box 36"/>
          <p:cNvSpPr/>
          <p:nvPr/>
        </p:nvSpPr>
        <p:spPr>
          <a:xfrm>
            <a:off x="7715160" y="3929040"/>
            <a:ext cx="122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1/16000 of the records to look 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333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The Cardinality Rule: 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How do I find the Cardinality of a Valu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05000"/>
            <a:ext cx="8785440" cy="1780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(DISTINCT COMPANY_DEPART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ABLE_1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179280" y="2565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how many distinct departments are there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0" y="33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You have all the right indexes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Ensure they ARE ACTUALLY US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5229360"/>
            <a:ext cx="81471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WHERE clauses with two arguments from the same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68360" y="1844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Formul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68360" y="29257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Back-ended wild car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68360" y="4078440"/>
            <a:ext cx="813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use of CAST in a joi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0" y="42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void Formulas in a Join or a Sear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388360" cy="13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ACCOUNT_NAME, TRANS_DATE, AMOU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TRANS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AMOUNT + 3000 &lt; 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792000" y="436572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  <a:ea typeface="Times New Roman"/>
              </a:rPr>
              <a:t>The statement below will use the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250920" y="5373720"/>
            <a:ext cx="8893080" cy="1187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account_name, trans_date, amou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transa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638"/>
                </a:solidFill>
                <a:latin typeface="Courier New"/>
              </a:rPr>
              <a:t>WHERE amount &lt;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24000" y="31417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he condition above, based on a calculated formula will not allow the use of an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20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Basic DDL Command Synta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285560"/>
            <a:ext cx="8964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ABLE - creates a new data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 TABLE - alters (changes) a data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ABLE - deletes a databas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DEX - creates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INDEX - deletes an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42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void WHERE clauses wher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two arguments ar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  <a:ea typeface="Times New Roman"/>
              </a:rPr>
              <a:t>from the same t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1920" y="2265480"/>
            <a:ext cx="8487000" cy="253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TRNS.ACCOUNT_NAME, TRNS.SHIP_DATE, TRNS.PO_DATE,  TRNS.DOLLAR_AMOUN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TRANSACTION TR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TRN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SHIP_DATE =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TRN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O_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24000" y="5257800"/>
            <a:ext cx="83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he two arguments are in the same table. No index will be cre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9960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71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Avoid the use of CAST in a Joi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(Cast Only If There I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No Other Solution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57120" y="2071800"/>
            <a:ext cx="8532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QL allows joining data with different key types using CA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0" y="5214960"/>
            <a:ext cx="89298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y? Because it precludes the use of existing indexes – in effect forcing the creation of a new, temporary index =&gt; SL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142920" y="3214800"/>
            <a:ext cx="8929800" cy="19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FILEA.*, FILEB.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FILEA INNER JOIN FILE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HAR( FILEA.NUMERIC_SN ) = FILEB.CHARACTER_S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Get the Most out of you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WHERE Claus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24000" y="1989000"/>
            <a:ext cx="88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Order your WHERE Clauses by putting the comparisons in </a:t>
            </a:r>
            <a:r>
              <a:rPr b="0" lang="en-CA" sz="3200" spc="-1" strike="noStrike" u="sng">
                <a:solidFill>
                  <a:srgbClr val="c00000"/>
                </a:solidFill>
                <a:uFillTx/>
                <a:latin typeface="Tahoma"/>
              </a:rPr>
              <a:t>order of efficiency</a:t>
            </a: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&gt;, &gt;=, &lt;, &lt;=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LIK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&lt;&gt;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possible, use WHERE in place of HA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Joins vs. Sub-Quer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179280" y="1557360"/>
            <a:ext cx="89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cc"/>
                </a:solidFill>
                <a:latin typeface="Tahoma"/>
              </a:rPr>
              <a:t>Rule of thumb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Joins are more efficient than sub-qu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Excep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When the sub-query contains one or more aggreg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142920"/>
            <a:ext cx="889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  <a:ea typeface="Times New Roman"/>
              </a:rPr>
              <a:t>SQL Performance Tool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79280" y="1285920"/>
            <a:ext cx="89647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Series Navigator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 System commands to enhance, monitor or control SQL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QL Optimizer Techniq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ips &amp; Techniqu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-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The iSeries Navigat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250920" y="4724280"/>
            <a:ext cx="889308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Explain, part of iSeries Navig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where IBM is putting their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ee SQL Performance Diagnostics Red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http://www.redbooks.ibm.com/redbooks/pdfs/sg246654.p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647712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0" y="115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5 System Comma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50920" y="4292640"/>
            <a:ext cx="8893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ing STR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see Optimizer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250920" y="836640"/>
            <a:ext cx="88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SPJOB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see the current progress of the SQL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287280" y="1844640"/>
            <a:ext cx="88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TSQLIN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see what the stats are on a previously run SQL compiled object (i.e. Stored Proced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0920" y="3284640"/>
            <a:ext cx="88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GQRY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modify the query limits  or parallelism for a jo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50920" y="5398920"/>
            <a:ext cx="8893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DB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ne more option to see the Optimizer Suggestions (good for compiled c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189000"/>
            <a:ext cx="9396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 the 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QL Optimizer suggestions</a:t>
            </a:r>
            <a:r>
              <a:rPr b="1" lang="en-US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 improve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ith INTERPRETED Code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2276640"/>
            <a:ext cx="120603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 Put SQL in a QM Que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 Start Debug: simply use STRDB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 Run the QM Que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) Look at the joblo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) Review the job log and lo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following mess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**** Starting optimizer debug message for que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ccess path suggestion for f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250920" y="1989000"/>
            <a:ext cx="8532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) Go in debug and change the job to record all activities and second level tex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DBG UPDPROD(*YE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GJOB LOG(4 4 *SECLV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with *SECLVL, both the message text and the message help (cause and recovery) of the error message are written to the job 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611280" y="115920"/>
            <a:ext cx="78483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 the 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QL Optimizer suggestions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 improve performance (1 of 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ith COMPILED code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0" y="189000"/>
            <a:ext cx="93963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 the </a:t>
            </a: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SQL Optimizer suggestions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 improve performance (2 of 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ith COMPILED code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2276640"/>
            <a:ext cx="120603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Call Stored Procedure from an SQ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) Review the job log and lo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following mess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**** Starting optimizer debug message for quer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ccess path suggestion for f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ystem will typically make precise index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ions, or not suggest at 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   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  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1844280"/>
            <a:ext cx="5040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DDL : </a:t>
            </a:r>
            <a:br>
              <a:rPr sz="4000"/>
            </a:b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Members &amp; Naming Conventions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2923920"/>
            <a:ext cx="8351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created with DDL can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MBER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or Views using long names (up to 128 characters) will not be visible with iSeries commands DSPOBJD and DSPF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Performance Checklist/Reca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428760" y="1214280"/>
            <a:ext cx="84978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tables indexed? Do you have the best indexe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indexes us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CAST or LIKE operations used in joi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re Formulas in WHERE clau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technique optimu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 vs. Correlated sub-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 with too many sub-j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icated joins that can be si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13840"/>
            <a:ext cx="8553240" cy="628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  <a:ea typeface="Times New Roman"/>
              </a:rPr>
              <a:t>Recap For This Presentation: 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DDL The Bas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SQL Languag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Interpreted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Compiled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 Dynamic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&gt; Index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146160"/>
            <a:ext cx="88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Recap For This Presentation: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179280" y="1052640"/>
            <a:ext cx="89647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QL Implementations on iSe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d vs. Compil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urity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BC Access, Promo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xes, Indexes, Indexes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ins vs Sub-Qu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996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11280" y="1628640"/>
            <a:ext cx="7489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hear and forge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see and remember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 do and I understand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g Fut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51 B.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49924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0" y="907920"/>
            <a:ext cx="914400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Email: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dambrine@tylogix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ee the SQL Section i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www.tylogix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Good Online SQL Tutorial Website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http://www.w3schools.com/sql/default.a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QL Performance Diagnosis on IBM DB2 Universal Database for iSerie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http://www.redbooks.ibm.com/redbooks/pdfs/sg246654.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250920" y="1773360"/>
            <a:ext cx="8532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115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Questions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DL Coding Example: A SIMPLE TABL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2000" y="1125360"/>
            <a:ext cx="864252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ER100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BATCH_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BTCH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UMERIC(10)  NOT NU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OURCE_FACILIT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SRCF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HAR(30)     NOT NU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OURCE_DESCRI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SRCDS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ARCHAR(100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OT NU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OAD_TIMESTA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LDTM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Courier New"/>
              </a:rPr>
              <a:t>TIMESTA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OT NU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 ON ER100F (SOURCE_FACILITY  TEXT IS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ource Facility '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 ON ER100F (BATCH_ID         TEXT IS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Batch ID        '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 ON ER100F (LOAD_TIMESTAMP   TEXT I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oad Timestamp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EL ON TABL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100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S 'Test Data Fact Table'  ;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24000" y="613728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of a Physic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DL Coding Example: A UNIQUE Index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2360" y="1915920"/>
            <a:ext cx="8423280" cy="24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REATE UNIQUE INDEX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R100FIDX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ON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R100F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(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TCH_D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TCH_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24000" y="4797360"/>
            <a:ext cx="842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of a Logical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ble with DSPDBR Comm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a VIEW 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DL Coding Example 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423280" cy="19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CREATE VIEW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MA_PROJ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  AS SELECT * FROM PROJEC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 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WHERE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SUBSTR(PROJNO, 1, 2) = 'MA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4076640"/>
            <a:ext cx="842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of a Logical File with a SELECT BUT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ANNOT US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ORDER BY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ble with DSPDBR Command IF the VIEW name is 10 characters or 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DYL</dc:creator>
  <dc:description/>
  <dc:language>en-US</dc:language>
  <cp:lastModifiedBy>Thibault Dambrine</cp:lastModifiedBy>
  <dcterms:modified xsi:type="dcterms:W3CDTF">2009-02-05T06:39:13Z</dcterms:modified>
  <cp:revision>923</cp:revision>
  <dc:subject/>
  <dc:title>PowerPoint Presentation</dc:title>
</cp:coreProperties>
</file>